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0BE-2BEF-4141-BE66-7F038B6E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3C3-8210-4FE4-8315-C92C1CCF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9BCA-6DF2-44F6-954C-57C0F7E1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0706-618B-4DFE-AE9E-63CB0058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75B-7756-47A9-989E-6D6C9094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1E5-3EEA-4F9A-A510-A291FF2B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40D-27BD-4EA9-B783-4FC24334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9E5-D79D-4825-8CAB-D1220B3B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678-8A3F-4F91-81C1-E453C88A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605E-09D7-4F11-B81B-CB489390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075-68D6-459A-9AE3-5B778F5E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77E-8297-4625-BA90-6D19E206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D070-DB87-4020-AB71-2E1735577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G:/Teacher%20Resources/Downloaded%20Videos/Enzyme%20Action.avi" TargetMode="External"/><Relationship Id="rId3" Type="http://schemas.openxmlformats.org/officeDocument/2006/relationships/hyperlink" Target="file:///G:/Teacher%20Resources/Downloaded%20Videos/Enzyme%20Action.avi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cal Reactions and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 Chapter 2, Sec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172200" cy="327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88920" y="685800"/>
            <a:ext cx="67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 Subst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41560" y="529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7960" y="5257800"/>
            <a:ext cx="65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:\Teacher Resources\Downloaded Videos\Enzym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ction.a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172200" cy="3810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70520" y="685800"/>
            <a:ext cx="64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ing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 Substr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ymes can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jo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rates into produc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ymes work best at a certain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emper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 of Enzy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regulating chemical pat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mak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releasing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transferring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781680" y="2438280"/>
            <a:ext cx="2013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study chemical reactions in bio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 isn’t just what life i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de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emistry is also what lif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that happens in an organism is based on chemical reactions (growth, response to environment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cess that change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Reactions vs. Fast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p49"/>
          <p:cNvPicPr/>
          <p:nvPr/>
        </p:nvPicPr>
        <p:blipFill>
          <a:blip r:embed="rId1"/>
          <a:stretch/>
        </p:blipFill>
        <p:spPr>
          <a:xfrm>
            <a:off x="1371600" y="3429000"/>
            <a:ext cx="2346480" cy="3003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4876920" y="3505320"/>
            <a:ext cx="276372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reactio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rea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nds in reactants and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rm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nds i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rcRect l="0" t="0" r="0" b="21894"/>
          <a:stretch/>
        </p:blipFill>
        <p:spPr>
          <a:xfrm>
            <a:off x="1219320" y="1905120"/>
            <a:ext cx="67500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action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lea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and som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bsor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ctivation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energy required to start a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graph"/>
          <p:cNvPicPr/>
          <p:nvPr/>
        </p:nvPicPr>
        <p:blipFill>
          <a:blip r:embed="rId1"/>
          <a:stretch/>
        </p:blipFill>
        <p:spPr>
          <a:xfrm>
            <a:off x="1523880" y="3886200"/>
            <a:ext cx="6096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ding up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l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s or reaction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ith high activation energ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ed a cataly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taly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ny substance that lowers the activation energy of a reaction to “speed it u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catalyst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ar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tein molec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graph1"/>
          <p:cNvPicPr/>
          <p:nvPr/>
        </p:nvPicPr>
        <p:blipFill>
          <a:blip r:embed="rId1"/>
          <a:stretch/>
        </p:blipFill>
        <p:spPr>
          <a:xfrm>
            <a:off x="1523880" y="762120"/>
            <a:ext cx="632484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5715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provide a site wher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ctan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brought together to rea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 enzyme-catalyzed reaction, the reactants are 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bstr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enzyme has a specific shape and a specific portion called th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substrates bi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342900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strates must fit exactly into the active site.  This is called th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ock and k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reaction is complete, the enzyme releases th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duc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can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o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rates into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143000" y="4038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114800" y="358128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9:15:01Z</dcterms:created>
  <dc:creator>Kate</dc:creator>
  <dc:description/>
  <dc:language>en-US</dc:language>
  <cp:lastModifiedBy>Kate</cp:lastModifiedBy>
  <dcterms:modified xsi:type="dcterms:W3CDTF">2011-10-16T19:52:10Z</dcterms:modified>
  <cp:revision>5</cp:revision>
  <dc:subject/>
  <dc:title>Chemical Reactions and Enzymes</dc:title>
</cp:coreProperties>
</file>